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B03-A82B-4536-A42B-9CA9BC73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257-96C1-411C-B0B9-9728788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119-877E-4D4C-907D-C03C208C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7C9-3DB0-41BA-BE28-37B0EB5F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775-3B8E-4C8D-9AAD-E0F4902F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788-F38C-4257-B4C6-1B6C544B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95A1-D090-4A40-8C89-CBF36181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B911-A565-4226-BEE8-A0A438D1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12B6-DBE8-47E0-AC8A-97F90444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561-200C-49E5-A177-B341C58F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EC80-AD57-4B2B-812A-D0191096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EC6-BA48-4532-BC2C-A7F7FC5E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F5A-2BE8-4899-B151-3CC8CD1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1FAB-06DC-4113-A79B-0F02930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C94E-3CDB-45EE-8457-257BB9CB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89EE-DD07-4AA4-9512-39F8DA12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10F-C8E8-4DD5-A098-2C438006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9B4-31BF-4E6A-9805-A6F3BACC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5A5-668A-40CD-A40A-C27882D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E5F5-A23A-49D9-BF33-67011D6E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095C-A83E-4CE0-9A21-8BBF866D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000-10D7-44F1-907A-DA7B390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4E3-74E7-45BC-8824-DC7D866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170-F113-4478-A8DA-D74A7B1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D90-C0D8-44D3-9C9E-ADEA5B2EE2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C28B-E5F4-4A81-9AAB-23E6105BC61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ttle-miss-pink.deviantart.com/art/Hate-38191635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pressions Of M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ango Danc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1905120"/>
            <a:ext cx="5943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irling and swirling to a Latin be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ing in ways that no one d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skirt of burgundy flowers flies up hig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59092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1066680"/>
            <a:ext cx="5562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only laughs, silly men stop and s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ill never work up the nerv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by two, they separate by pair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one she dances, not needing a m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83000" cy="42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38280" y="1371600"/>
            <a:ext cx="6248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eyes are of a kind most r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ep black onyx that stare through your s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wishes this night to never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ts that last eternally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sweet a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71760" cy="51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3276720" y="1371600"/>
            <a:ext cx="5638680" cy="4622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onnet of 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057400"/>
            <a:ext cx="6248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mson hate courses through me like a fi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t up in the starry rage of the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mile can only make the flames hig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laugh even though you know I’m r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scream and yell, trying to make you see the l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hing but violence results in the 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y to change your will with all my m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ed to make sense of the rules you b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600200" y="76212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dges that we have yet to m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te is my poison, stealing my breat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ience is the gift that no one can l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son hate, blood red d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ck chaos morphing into burg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’t you see the hate that you pull out of 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01000" cy="569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by Jagu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981080"/>
            <a:ext cx="8153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Little baby jaguar, stalking in the mid-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Camouflages in darkness, hidden from their s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ngel roar resounds throughout the darkened playgr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 little child comes out to play with curiosity un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asting scarlet blood running through the ea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earching old places of his mother’s birt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plashing in the water, deep with his bug best friends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Muddy paw prints trek through the dirty be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6520" y="685800"/>
            <a:ext cx="594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pping at the kisses of sweet dew laid for 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time that lasts forever, hoping it will never c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cing into the Moon Mother’s embr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keeping with the ancient predator’s 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of me is a little jaguar ch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brings me to this deep dark, wi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s us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little-miss-pink.deviantart.com/art/Hate-3819163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poisonedpure.deviantart.com/art/Hate-Love-206607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rayned-voodoo.deviantart.com/art/love-and-hate-3653307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anx-works.deviantart.com/art/Black-Jaguar-41461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robbobert.deviantart.com/art/The-Jaguar-s-Gaze-120725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iezbiez.deviantart.com/art/Jaguar-portrait-352794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allalilynini.deviantart.com/art/Salsa-Dancer-532993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oubtful-della.deviantart.com/art/Flamenco-2087787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salsagrooves.ie/images/contact.g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21:30:21Z</dcterms:created>
  <dc:creator>Roni</dc:creator>
  <dc:description/>
  <dc:language>en-US</dc:language>
  <cp:lastModifiedBy>Roni</cp:lastModifiedBy>
  <dcterms:modified xsi:type="dcterms:W3CDTF">2008-05-31T20:30:40Z</dcterms:modified>
  <cp:revision>3</cp:revision>
  <dc:subject/>
  <dc:title>Expressions Of Me</dc:title>
</cp:coreProperties>
</file>